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presProps.xml" ContentType="application/vnd.openxmlformats-officedocument.presentationml.presProps+xml"/>
  <Override PartName="/ppt/slides/_rels/slide177.xml.rels" ContentType="application/vnd.openxmlformats-package.relationships+xml"/>
  <Override PartName="/ppt/slides/_rels/slide172.xml.rels" ContentType="application/vnd.openxmlformats-package.relationships+xml"/>
  <Override PartName="/ppt/slides/_rels/slide43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211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212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58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249.xml.rels" ContentType="application/vnd.openxmlformats-package.relationships+xml"/>
  <Override PartName="/ppt/slides/_rels/slide6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267.xml.rels" ContentType="application/vnd.openxmlformats-package.relationships+xml"/>
  <Override PartName="/ppt/slides/_rels/slide272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22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7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73.xml.rels" ContentType="application/vnd.openxmlformats-package.relationships+xml"/>
  <Override PartName="/ppt/slides/_rels/slide62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6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326.xml.rels" ContentType="application/vnd.openxmlformats-package.relationships+xml"/>
  <Override PartName="/ppt/slides/_rels/slide236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224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261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216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41.xml.rels" ContentType="application/vnd.openxmlformats-package.relationships+xml"/>
  <Override PartName="/ppt/slides/_rels/slide36.xml.rels" ContentType="application/vnd.openxmlformats-package.relationships+xml"/>
  <Override PartName="/ppt/slides/_rels/slide217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325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178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99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327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17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12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121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5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40.xml.rels" ContentType="application/vnd.openxmlformats-package.relationships+xml"/>
  <Override PartName="/ppt/slides/_rels/slide3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15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154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1.xml.rels" ContentType="application/vnd.openxmlformats-package.relationships+xml"/>
  <Override PartName="/ppt/slides/_rels/slide2.xml.rels" ContentType="application/vnd.openxmlformats-package.relationships+xml"/>
  <Override PartName="/ppt/slides/_rels/slide3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09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12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58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6.xml" ContentType="application/vnd.openxmlformats-officedocument.presentationml.slide+xml"/>
  <Override PartName="/ppt/slides/slide100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90.xml" ContentType="application/vnd.openxmlformats-officedocument.presentationml.slide+xml"/>
  <Override PartName="/ppt/slides/slide29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60.xml" ContentType="application/vnd.openxmlformats-officedocument.presentationml.slide+xml"/>
  <Override PartName="/ppt/slides/slide298.xml" ContentType="application/vnd.openxmlformats-officedocument.presentationml.slide+xml"/>
  <Override PartName="/ppt/slides/slide314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61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289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91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284.xml" ContentType="application/vnd.openxmlformats-officedocument.presentationml.slide+xml"/>
  <Override PartName="/ppt/slides/slide292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285.xml" ContentType="application/vnd.openxmlformats-officedocument.presentationml.slide+xml"/>
  <Override PartName="/ppt/slides/slide293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86.xml" ContentType="application/vnd.openxmlformats-officedocument.presentationml.slide+xml"/>
  <Override PartName="/ppt/slides/slide294.xml" ContentType="application/vnd.openxmlformats-officedocument.presentationml.slide+xml"/>
  <Override PartName="/ppt/slides/slide31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295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299.xml" ContentType="application/vnd.openxmlformats-officedocument.presentationml.slide+xml"/>
  <Override PartName="/ppt/slides/slide262.xml" ContentType="application/vnd.openxmlformats-officedocument.presentationml.slide+xml"/>
  <Override PartName="/ppt/slides/slide69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320.xml" ContentType="application/vnd.openxmlformats-officedocument.presentationml.slide+xml"/>
  <Override PartName="/ppt/slides/slide283.xml" ContentType="application/vnd.openxmlformats-officedocument.presentationml.slide+xml"/>
  <Override PartName="/ppt/slides/slide282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26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3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  <p:sldId id="564" r:id="rId311"/>
    <p:sldId id="565" r:id="rId312"/>
    <p:sldId id="566" r:id="rId313"/>
    <p:sldId id="567" r:id="rId314"/>
    <p:sldId id="568" r:id="rId315"/>
    <p:sldId id="569" r:id="rId316"/>
    <p:sldId id="570" r:id="rId317"/>
    <p:sldId id="571" r:id="rId318"/>
    <p:sldId id="572" r:id="rId319"/>
    <p:sldId id="573" r:id="rId320"/>
    <p:sldId id="574" r:id="rId321"/>
    <p:sldId id="575" r:id="rId322"/>
    <p:sldId id="576" r:id="rId323"/>
    <p:sldId id="577" r:id="rId324"/>
    <p:sldId id="578" r:id="rId325"/>
    <p:sldId id="579" r:id="rId326"/>
    <p:sldId id="580" r:id="rId327"/>
    <p:sldId id="581" r:id="rId328"/>
    <p:sldId id="582" r:id="rId329"/>
    <p:sldId id="583" r:id="rId330"/>
    <p:sldId id="584" r:id="rId3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slide" Target="slides/slide309.xml"/><Relationship Id="rId312" Type="http://schemas.openxmlformats.org/officeDocument/2006/relationships/slide" Target="slides/slide310.xml"/><Relationship Id="rId313" Type="http://schemas.openxmlformats.org/officeDocument/2006/relationships/slide" Target="slides/slide311.xml"/><Relationship Id="rId314" Type="http://schemas.openxmlformats.org/officeDocument/2006/relationships/slide" Target="slides/slide312.xml"/><Relationship Id="rId315" Type="http://schemas.openxmlformats.org/officeDocument/2006/relationships/slide" Target="slides/slide313.xml"/><Relationship Id="rId316" Type="http://schemas.openxmlformats.org/officeDocument/2006/relationships/slide" Target="slides/slide314.xml"/><Relationship Id="rId317" Type="http://schemas.openxmlformats.org/officeDocument/2006/relationships/slide" Target="slides/slide315.xml"/><Relationship Id="rId318" Type="http://schemas.openxmlformats.org/officeDocument/2006/relationships/slide" Target="slides/slide316.xml"/><Relationship Id="rId319" Type="http://schemas.openxmlformats.org/officeDocument/2006/relationships/slide" Target="slides/slide317.xml"/><Relationship Id="rId320" Type="http://schemas.openxmlformats.org/officeDocument/2006/relationships/slide" Target="slides/slide318.xml"/><Relationship Id="rId321" Type="http://schemas.openxmlformats.org/officeDocument/2006/relationships/slide" Target="slides/slide319.xml"/><Relationship Id="rId322" Type="http://schemas.openxmlformats.org/officeDocument/2006/relationships/slide" Target="slides/slide320.xml"/><Relationship Id="rId323" Type="http://schemas.openxmlformats.org/officeDocument/2006/relationships/slide" Target="slides/slide321.xml"/><Relationship Id="rId324" Type="http://schemas.openxmlformats.org/officeDocument/2006/relationships/slide" Target="slides/slide322.xml"/><Relationship Id="rId325" Type="http://schemas.openxmlformats.org/officeDocument/2006/relationships/slide" Target="slides/slide323.xml"/><Relationship Id="rId326" Type="http://schemas.openxmlformats.org/officeDocument/2006/relationships/slide" Target="slides/slide324.xml"/><Relationship Id="rId327" Type="http://schemas.openxmlformats.org/officeDocument/2006/relationships/slide" Target="slides/slide325.xml"/><Relationship Id="rId328" Type="http://schemas.openxmlformats.org/officeDocument/2006/relationships/slide" Target="slides/slide326.xml"/><Relationship Id="rId329" Type="http://schemas.openxmlformats.org/officeDocument/2006/relationships/slide" Target="slides/slide327.xml"/><Relationship Id="rId330" Type="http://schemas.openxmlformats.org/officeDocument/2006/relationships/slide" Target="slides/slide328.xml"/><Relationship Id="rId331" Type="http://schemas.openxmlformats.org/officeDocument/2006/relationships/slide" Target="slides/slide329.xml"/><Relationship Id="rId3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FAA-292D-4609-B4A4-C8826202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507-D395-4F72-B8E2-F7FFF87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64A-F676-472E-BACC-70EAE0D6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880-1ABE-4242-BDF0-E2814250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155-5BAC-49E6-B874-5DA88B36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347-35D7-4FF4-B893-CC85F048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156-C6B4-464D-9946-0CA306F4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910-B81B-46BA-B27E-9E2219FF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BA3-4E6B-4D50-B632-2EF8E4EF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3C1-E702-4E1F-B184-AA3967C4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0BB-192A-4A9F-AD78-D9088474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5EF-A741-4754-A033-41C095C4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856A-D924-45EF-84D5-C208BEC91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640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Welcome to</a:t>
            </a:r>
            <a:br>
              <a:rPr sz="60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AntigoniBd"/>
              </a:rPr>
              <a:t>The mental stress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6467400"/>
            <a:ext cx="47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00"/>
                </a:solidFill>
                <a:latin typeface="Times New Roman"/>
              </a:rPr>
              <a:t>Designed by Dr. Soren Brage, MRC Epidemiology Unit, Cambridge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the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01080" y="609300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72360" y="61498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72360" y="61498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ll done !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now have a short break before we go on with the second half of the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wording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lease get ready to continu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t consists of two main tests with a 2-min break in betw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deserve a break</a:t>
            </a:r>
            <a:br>
              <a:rPr sz="48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bout 2min)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Please rest while we tell you about the next p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next series of tests are geometry puzzles or ma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geometry puzzles are about </a:t>
            </a:r>
            <a:r>
              <a:rPr b="1" lang="en-GB" sz="4800" spc="-1" strike="noStrike">
                <a:solidFill>
                  <a:srgbClr val="ffff00"/>
                </a:solidFill>
                <a:latin typeface="Times New Roman"/>
              </a:rPr>
              <a:t>recognising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re-occurring patter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ase answer ‘YES’ or ‘NO’ as fast as you ca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403280" y="1989000"/>
            <a:ext cx="6335640" cy="273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If you see this screen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 x 7 = 28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YE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692360" y="1916280"/>
            <a:ext cx="6264360" cy="27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f you see this screen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 x 7 = 82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NO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971640" y="1628640"/>
            <a:ext cx="6335640" cy="273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ilarly: If you see this scree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*   **    ***   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****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 you answer ‘YES’</a:t>
            </a:r>
            <a:br>
              <a:rPr sz="40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because one * is added each tim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971640" y="1916280"/>
            <a:ext cx="6840360" cy="27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7724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f you see this screen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*    **     ***   ?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**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NO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t is important that you answer 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fast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as you c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nce again your score will be recor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re you ready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6 = 3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+    ++    +++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6 = 6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\/    \/\    \/\/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/\/\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7 = 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     ++     ++++       ? </a:t>
            </a:r>
            <a:br>
              <a:rPr sz="44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20 x 21 = 42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aa    ab    bb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c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7 = 6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:    :.:    :..:    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...: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8 x 12 = 8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&lt;&gt;   &gt;&lt;   \/   /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\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1 x 11 = 12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]=[   [-]   {-}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}={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 x 12 = 13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     **.     *.. 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-12 - 9 = -2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yiy   ioi   oxo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y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8 / 4 = 3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*   ***   **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*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43 / 11 = 1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dd   dq   qq   qc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cq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17 = 11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8+8    +88    88+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8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ll done !</a:t>
            </a:r>
            <a:br>
              <a:rPr sz="48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now have a 30 sec break before we go on with the second half of the math / geometry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lease get ready to continu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2636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st 1: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word test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 min test, 30 sec rest, 2 min test)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st 2: Geometry and math puzzle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 min test, 30 sec rest, 2 min 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-31 + 14 = -1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::   ::;   :;;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;: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13 = 7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yxxx    yxx    yx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16 = 7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**   ***   **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*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8 = 6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.:.   .::.   .:.: 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: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7 = 4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+     ++     +++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6 = 6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\/    \/\    \/\/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\/\/\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7 = 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     ++     ++++       ? </a:t>
            </a:r>
            <a:br>
              <a:rPr sz="44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 - (-14) = 2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ss     sts     stts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st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4 = 5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xvA   xAv   xvA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A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13 = 7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 :    :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    :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    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=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8 x 12 = 8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bd   db   \/  /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40 x 7 = 23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pq    bd    69    9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ll done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You can relax now</a:t>
            </a:r>
            <a:br>
              <a:rPr sz="4800"/>
            </a:br>
            <a:br>
              <a:rPr sz="48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lease keep all equipment on and remain seated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until you see a black scree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ank you 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35164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808080"/>
                </a:solidFill>
                <a:latin typeface="Times New Roman"/>
              </a:rPr>
              <a:t>U</a:t>
            </a: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R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R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lease speak out the </a:t>
            </a:r>
            <a:r>
              <a:rPr b="1" i="1" lang="en-GB" sz="54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f the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word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you see on the scre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9640" y="2060640"/>
            <a:ext cx="7417080" cy="302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Example: When you see a screen like this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8800" spc="-1" strike="noStrike">
                <a:solidFill>
                  <a:srgbClr val="0000ff"/>
                </a:solidFill>
                <a:latin typeface="Tahoma"/>
              </a:rPr>
              <a:t>RED</a:t>
            </a:r>
            <a:br>
              <a:rPr sz="8800"/>
            </a:br>
            <a:br>
              <a:rPr sz="88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ou answer ‘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BLUE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609480"/>
            <a:ext cx="87138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Times New Roman"/>
              </a:rPr>
              <a:t>It is important that you answer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5400"/>
            </a:br>
            <a:br>
              <a:rPr sz="2000"/>
            </a:b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fast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as you ca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our score will be recor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re you ready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2T14:24:52Z</dcterms:created>
  <dc:creator>Soren Brage</dc:creator>
  <dc:description/>
  <dc:language>en-US</dc:language>
  <cp:lastModifiedBy>sb400</cp:lastModifiedBy>
  <dcterms:modified xsi:type="dcterms:W3CDTF">2008-07-25T12:08:46Z</dcterms:modified>
  <cp:revision>57</cp:revision>
  <dc:subject/>
  <dc:title>Mental Stress Test</dc:title>
</cp:coreProperties>
</file>