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A67-9702-491F-84E8-39D6ACB7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D82-6E56-4E60-923C-82483086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BFF-5F0B-4662-8055-5D05757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30B-6C54-4ED7-BF38-EC3C3A4F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DAC-38E1-474D-987B-B29FF91D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C90-D84D-4D0D-BA9D-8422EEFB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75E-DEAA-4A8B-A06F-3E47C1A1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8D8-9022-4DC5-9A50-CDB9B47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F8E-0690-4E90-904E-312A987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DF6-9ACB-47A2-A487-9E5D41D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186-28CD-42D5-B3D6-C06C89E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F6A-578F-4B96-B63A-5C8DFFA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7D8-7AC8-44B1-81FD-2F934DA7A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elcome to</a:t>
            </a:r>
            <a:br>
              <a:rPr sz="6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ntigoniBd"/>
              </a:rPr>
              <a:t>The mental stress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6467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00"/>
                </a:solidFill>
                <a:latin typeface="Times New Roman"/>
              </a:rPr>
              <a:t>Designed by Dr. Soren Brage, MRC Epidemiology Unit, Cambridge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the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1080" y="609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short break before we go on with the second half of the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ing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consists of two main tests with a 2-min break in betw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serve a break</a:t>
            </a: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bout 2min)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lease rest while we tell you about the next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next series of tests are geometry puzzles or m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geometry puzzles are about 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recognising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-occurring patt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answer ‘YES’ or ‘NO’ as fast as you ca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403280" y="198900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28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92360" y="1916280"/>
            <a:ext cx="6264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82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71640" y="162864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arly: If you see this scree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*   **    ***   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****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br>
              <a:rPr sz="40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because one * is added each 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71640" y="1916280"/>
            <a:ext cx="6840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*    **     ***   ?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**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t is important that you answer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ce again 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6 = 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++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\/\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20 x 21 = 4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aa    ab    bb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7 = 6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    :.:    :..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...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&lt;&gt;   &gt;&lt;   \/ 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1 x 11 = 1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]=[   [-]   {-}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}=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x 12 = 1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     **.     *..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12 - 9 = -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iy   ioi   oxo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y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8 / 4 = 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43 / 11 = 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dd   dq   qq   qc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7 = 1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8+8    +88    88+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8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8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30 sec break before we go on with the second half of the math / geometry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636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1: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 test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2: Geometry and math puzzl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31 + 14 = -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:   ::;   :;;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;: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3 = 7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xxx    yxx    yx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6 = 7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8 = 6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.:.   .::.   .:.: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: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7 = 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 ++ 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/\/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- (-14) =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ss     sts     stts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st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4 = 5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xvA   xAv   xvA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A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3 = 7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 :  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: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bd   db   \/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40 x 7 = 2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pq    bd    69    9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 can relax now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lease keep all equipment on and remain seate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til you see a black scree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k you 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3516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lease speak out the </a:t>
            </a: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you see on the sc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417080" cy="30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Example: When you see a screen like thi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8800" spc="-1" strike="noStrike">
                <a:solidFill>
                  <a:srgbClr val="0000ff"/>
                </a:solidFill>
                <a:latin typeface="Tahoma"/>
              </a:rPr>
              <a:t>RED</a:t>
            </a:r>
            <a:br>
              <a:rPr sz="8800"/>
            </a:br>
            <a:br>
              <a:rPr sz="8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answer 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LU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Times New Roman"/>
              </a:rPr>
              <a:t>It is important that you answe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br>
              <a:rPr sz="20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4:24:52Z</dcterms:created>
  <dc:creator>Soren Brage</dc:creator>
  <dc:description/>
  <dc:language>en-US</dc:language>
  <cp:lastModifiedBy>sb400</cp:lastModifiedBy>
  <dcterms:modified xsi:type="dcterms:W3CDTF">2008-07-25T12:08:46Z</dcterms:modified>
  <cp:revision>57</cp:revision>
  <dc:subject/>
  <dc:title>Mental Stress Test</dc:title>
</cp:coreProperties>
</file>